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766-96B2-4AE2-98DE-5FE5BEF6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960-ABB0-4FD5-9D29-C1996A6E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81D-E497-4C5D-9F9E-FF24EC6E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F94-D7F3-4A30-9E7F-E9529AFF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6E0-75A1-41C1-9F3C-090C7A9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8B4D-D06E-4BB9-9CE1-51AE0DF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433A-A207-42F3-AD0A-93C639C8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8F9C-51CD-41E7-856C-7B7012BA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A11C-D0A9-410D-A5C0-BC9A29E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EE51-5FC3-4B3A-8542-90DF113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9CF8-4190-4EFE-8F63-489B71B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9D3-6EDC-4374-8C42-40D5DFFA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516-CF62-4869-9C03-0FB521D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591-E788-428A-B977-E006AFB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5F03-15DC-4B01-9CC8-E10B2AD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B4C-AED9-4224-8C48-DD93AF08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FA57-C340-4889-84B3-0DF9003A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A81-A176-453F-81CA-AE9FAE37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84A-7270-45E0-8C95-6445434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4AB-C542-4A78-B85E-B1117C6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4A3-8AE6-4332-A296-7A59873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10D-CE9C-40C1-89D6-4CC73CA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3E2-507F-4B4F-A5B2-4759586D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DC3-CBCC-4E92-A922-4FD23B3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2858-9F35-44F5-B0A6-60A95397EFE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57C-94AE-4A0D-BD9C-4E3D8502922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7E8B-EFAA-4FA5-9C64-750D30710DD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000" spc="-1" strike="noStrike">
                <a:solidFill>
                  <a:srgbClr val="cc6600"/>
                </a:solidFill>
                <a:latin typeface="Arial Black"/>
              </a:rPr>
              <a:t>DECALOGO DEL SUSTRATO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0" lang="es-ES_tradnl" sz="2800" spc="-1" strike="noStrike">
                <a:solidFill>
                  <a:srgbClr val="0000ff"/>
                </a:solidFill>
                <a:latin typeface="Arial Black"/>
              </a:rPr>
              <a:t>Debe retener hume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0" lang="es-ES_tradnl" sz="2800" spc="-1" strike="noStrike">
                <a:solidFill>
                  <a:srgbClr val="ff9900"/>
                </a:solidFill>
                <a:latin typeface="Arial Black"/>
              </a:rPr>
              <a:t>Debe permitir una buena aire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0" lang="es-ES_tradnl" sz="2800" spc="-1" strike="noStrike">
                <a:solidFill>
                  <a:srgbClr val="969696"/>
                </a:solidFill>
                <a:latin typeface="Arial Black"/>
              </a:rPr>
              <a:t>Debe tener buena estabilidad física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4.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Debe ser inerte químicame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0" lang="es-ES_tradnl" sz="2800" spc="-1" strike="noStrike">
                <a:solidFill>
                  <a:srgbClr val="336600"/>
                </a:solidFill>
                <a:latin typeface="Arial Black"/>
              </a:rPr>
              <a:t>Debe ser inerte biológicame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6. </a:t>
            </a:r>
            <a:r>
              <a:rPr b="0" lang="es-ES_tradnl" sz="2800" spc="-1" strike="noStrike">
                <a:solidFill>
                  <a:srgbClr val="6666ff"/>
                </a:solidFill>
                <a:latin typeface="Arial Black"/>
              </a:rPr>
              <a:t>Debe tener buen drenaj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7. </a:t>
            </a:r>
            <a:r>
              <a:rPr b="0" lang="es-ES_tradnl" sz="2800" spc="-1" strike="noStrike">
                <a:solidFill>
                  <a:srgbClr val="ff7c80"/>
                </a:solidFill>
                <a:latin typeface="Arial Black"/>
              </a:rPr>
              <a:t>Debe tener buena capilar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8. </a:t>
            </a:r>
            <a:r>
              <a:rPr b="0" lang="es-ES_tradnl" sz="2800" spc="-1" strike="noStrike">
                <a:solidFill>
                  <a:srgbClr val="01b0ff"/>
                </a:solidFill>
                <a:latin typeface="Arial Black"/>
              </a:rPr>
              <a:t>Debe ser livia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9. </a:t>
            </a:r>
            <a:r>
              <a:rPr b="0" lang="es-ES_tradnl" sz="2800" spc="-1" strike="noStrike">
                <a:solidFill>
                  <a:srgbClr val="cc0000"/>
                </a:solidFill>
                <a:latin typeface="Arial Black"/>
              </a:rPr>
              <a:t>Debe ser de bajo cos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0" lang="es-ES_tradnl" sz="2800" spc="-1" strike="noStrike">
                <a:solidFill>
                  <a:srgbClr val="9966ff"/>
                </a:solidFill>
                <a:latin typeface="Arial Black"/>
              </a:rPr>
              <a:t>Debe estar disponib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742-8E67-4333-8DDE-9487C1DF90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029200" cy="4407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Arial Black"/>
              </a:rPr>
              <a:t>MACRONUTRIE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6600"/>
                </a:solidFill>
                <a:uFillTx/>
                <a:latin typeface="Arial Black"/>
              </a:rPr>
              <a:t>Grandes o primarios</a:t>
            </a:r>
            <a:r>
              <a:rPr b="0" lang="es-ES_tradnl" sz="2400" spc="-1" strike="noStrike">
                <a:solidFill>
                  <a:srgbClr val="cc66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Nitrógeno           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Fósforo               P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Potasio               K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9900"/>
                </a:solidFill>
                <a:uFillTx/>
                <a:latin typeface="Arial Black"/>
              </a:rPr>
              <a:t>Intermedios o secundarios</a:t>
            </a: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Azufre                 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Calcio                 C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Magnesio            M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440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MICRONUTRIE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808080"/>
                </a:solidFill>
                <a:uFillTx/>
                <a:latin typeface="Arial Black"/>
              </a:rPr>
              <a:t>Menores o terciarios</a:t>
            </a:r>
            <a:r>
              <a:rPr b="0" lang="es-ES_tradnl" sz="2400" spc="-1" strike="noStrike">
                <a:solidFill>
                  <a:srgbClr val="80808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Hierro             F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Manganeso    M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Cobre             Cu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Zinc                Z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Boro               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Molibdeno       Mb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Black"/>
              </a:rPr>
              <a:t>Cloro               C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C7A1-05BF-4C10-926A-9FC4D587E81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1523880" y="1600200"/>
          <a:ext cx="693432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934320" cy="4702320"/>
                  </a:xfrm>
                  <a:prstGeom prst="rect">
                    <a:avLst/>
                  </a:prstGeom>
                  <a:ln w="381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27EE-5404-4E96-BCF4-064CA88D986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65" name="Object 3"/>
          <p:cNvGraphicFramePr/>
          <p:nvPr/>
        </p:nvGraphicFramePr>
        <p:xfrm>
          <a:off x="1523880" y="1336680"/>
          <a:ext cx="716292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36680"/>
                    <a:ext cx="7162920" cy="4957920"/>
                  </a:xfrm>
                  <a:prstGeom prst="rect">
                    <a:avLst/>
                  </a:prstGeom>
                  <a:ln w="93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779E-BD8E-4968-8AFB-75F05C31CD9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46748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70" name="Object 4"/>
          <p:cNvGraphicFramePr/>
          <p:nvPr/>
        </p:nvGraphicFramePr>
        <p:xfrm>
          <a:off x="1523880" y="1411200"/>
          <a:ext cx="70106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11200"/>
                    <a:ext cx="7010640" cy="4757760"/>
                  </a:xfrm>
                  <a:prstGeom prst="rect">
                    <a:avLst/>
                  </a:prstGeom>
                  <a:ln w="381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3C4B-48A7-479E-B4BD-8D98C8E7BF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1371600" y="1587600"/>
          <a:ext cx="6858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87600"/>
                    <a:ext cx="6858000" cy="4572000"/>
                  </a:xfrm>
                  <a:prstGeom prst="rect">
                    <a:avLst/>
                  </a:prstGeom>
                  <a:ln w="381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AE8C-E95D-4002-8188-681492192C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INTOMATOLOGI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Localiz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íntomas limitados a un sector de la hoja o de la pla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Generaliz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íntomas esparcidos por toda la hoja o por toda la pla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Black"/>
              </a:rPr>
              <a:t>Secado o quemado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ecrosis, acartonado, seco,  tostad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1932"/>
                </a:solidFill>
                <a:latin typeface="Arial Black"/>
              </a:rPr>
              <a:t>Marginal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lorosis o necrosis en los márgenes de la ho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555-BDE1-4DEB-8957-D652C966C72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INTOMATOLOGI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33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Black"/>
              </a:rPr>
              <a:t>Clorosis intervenal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marillamiento entre las venas de las ho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Mote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anchas claras y oscuras, asociado a viru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Black"/>
              </a:rPr>
              <a:t>Manchas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reas descoloridas con bordes definido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Color del envez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oloración particular en la parte inferior de la hoja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Arial Black"/>
              </a:rPr>
              <a:t>Enrosc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bordes de la hoja o las puntas se enrrollan hacia arriba  o hacia abaj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0137-4984-4112-8C5B-4B46FA28FB3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INTOMATOLOGI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Black"/>
              </a:rPr>
              <a:t>Reticul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nervaduras permanecen verdes  y el tejido entre ellas amarill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ejido vidrios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uando las hojas, peciolos y tallos les falta flexibilidad y se quiebran al tocar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Muerte descendente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uando las hojas terminales o del punto de crecimiento se secan y se mueren rápidamen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1932"/>
                </a:solidFill>
                <a:latin typeface="Arial Black"/>
              </a:rPr>
              <a:t>Achaparr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lantas más pequeñas que lo norm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Ahilado: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recimiento de tallo y peciolo muy delgados y débile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2BE-AA91-4415-AF5B-3443EFE4E9B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23920" y="0"/>
            <a:ext cx="7772400" cy="57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NUTRICION MINE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92" name="Object 3"/>
          <p:cNvGraphicFramePr/>
          <p:nvPr/>
        </p:nvGraphicFramePr>
        <p:xfrm>
          <a:off x="0" y="495360"/>
          <a:ext cx="91440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75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4" name="Line 7"/>
          <p:cNvSpPr/>
          <p:nvPr/>
        </p:nvSpPr>
        <p:spPr>
          <a:xfrm>
            <a:off x="0" y="2095560"/>
            <a:ext cx="91440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BC95-0C08-4DC8-87DF-441E4ECF2E3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15328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 NITROG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2044800"/>
            <a:ext cx="91440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absorbido en forma de NO</a:t>
            </a:r>
            <a:r>
              <a:rPr b="0" lang="es-ES" sz="2800" spc="-1" strike="noStrike" baseline="-25000">
                <a:solidFill>
                  <a:srgbClr val="ff6699"/>
                </a:solidFill>
                <a:latin typeface="Arial Black"/>
              </a:rPr>
              <a:t>3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 y NH</a:t>
            </a:r>
            <a:r>
              <a:rPr b="0" lang="es-ES" sz="2800" spc="-1" strike="noStrike" baseline="-25000">
                <a:solidFill>
                  <a:srgbClr val="ff6699"/>
                </a:solidFill>
                <a:latin typeface="Arial Black"/>
              </a:rPr>
              <a:t>4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Da el color verde intenso a las plant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Fomenta el rápido crecimiento 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Aumenta la producción de hoj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Mejora  la calidad de las hortaliz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Aumenta el contenido de proteínas  en los cultivos   de  alimentos y forraj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784-2E73-4176-8CCE-D070B4D8A12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720" y="-360"/>
            <a:ext cx="916308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SUSTRAT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743040"/>
            <a:ext cx="9144000" cy="5581440"/>
          </a:xfrm>
          <a:prstGeom prst="rect">
            <a:avLst/>
          </a:prstGeom>
          <a:solidFill>
            <a:srgbClr val="ccff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2236680" y="1471680"/>
            <a:ext cx="4635720" cy="466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554360" y="3813120"/>
            <a:ext cx="2200320" cy="684360"/>
          </a:xfrm>
          <a:prstGeom prst="line">
            <a:avLst/>
          </a:prstGeom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2378160" y="3824280"/>
            <a:ext cx="2162160" cy="851040"/>
          </a:xfrm>
          <a:prstGeom prst="line">
            <a:avLst/>
          </a:prstGeom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4516200" y="1469880"/>
            <a:ext cx="11160" cy="2345040"/>
          </a:xfrm>
          <a:prstGeom prst="line">
            <a:avLst/>
          </a:prstGeom>
          <a:ln w="572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2286000" y="1366920"/>
            <a:ext cx="2209680" cy="3233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Freeform 15"/>
          <p:cNvSpPr/>
          <p:nvPr/>
        </p:nvSpPr>
        <p:spPr>
          <a:xfrm>
            <a:off x="4543560" y="1500120"/>
            <a:ext cx="2295360" cy="29386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610320" y="49975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LIQUIDO0 - 4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87680" y="190188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Verdana"/>
              </a:rPr>
              <a:t>GASE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Verdana"/>
              </a:rPr>
              <a:t>0 -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6773040" y="18334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Verdana"/>
              </a:rPr>
              <a:t>SOLI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Verdana"/>
              </a:rPr>
              <a:t>0 -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-4680" y="509760"/>
            <a:ext cx="914076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Volúmenes relativos de material: sólido,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y gaseoso en un buen sust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A83C-1037-484F-93E2-5D3CBBF5994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 NITROG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62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Deficienci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Aspecto enfermizo de la plant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Color verde amarillento  debido a la pérdida de clorofil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Desarrollo lento y escas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Amarillamiento  inicial y secado posterior de las hojas  de la base de la planta  que continua hacia arriba , si la deficiencia  es muy severa  y no se corrige , las hojas más jóvenes permanecen verd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C01-0740-4425-894C-7079562910C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 NITROG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930320"/>
            <a:ext cx="91440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   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Cuando se suministra en cantidades desbalanceadas en relación con los demás elementos , la planta produce  </a:t>
            </a:r>
            <a:r>
              <a:rPr b="0" lang="es-ES" sz="2800" spc="-1" strike="noStrike">
                <a:solidFill>
                  <a:srgbClr val="006600"/>
                </a:solidFill>
                <a:latin typeface="Arial Black"/>
              </a:rPr>
              <a:t>mucho follaje de color verde oscuro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, pero el desarrollo de las raíces es reducid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   </a:t>
            </a: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-  La floración y la producción de frutos y semillas se retard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C8C-D86D-4967-9C46-E57FC563632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OSF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plantas lo toman en forma de P</a:t>
            </a:r>
            <a:r>
              <a:rPr b="0" lang="es-ES" sz="2400" spc="-1" strike="noStrike" baseline="-25000">
                <a:solidFill>
                  <a:srgbClr val="ff6699"/>
                </a:solidFill>
                <a:latin typeface="Arial Black"/>
              </a:rPr>
              <a:t>2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</a:t>
            </a:r>
            <a:r>
              <a:rPr b="0" lang="es-ES" sz="2400" spc="-1" strike="noStrike" baseline="-25000">
                <a:solidFill>
                  <a:srgbClr val="ff6699"/>
                </a:solidFill>
                <a:latin typeface="Arial Black"/>
              </a:rPr>
              <a:t>5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timula la rápida formación  y crecimiento de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Facilita el rápido y vigoroso comienzo a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elera la maduración y estimula la coloración de los frut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la formación de las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Da vigor a los cultivos para defenderse del rigor del inviern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CFD-2401-47B3-BF07-9476DFE1A5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OSF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parición  de hojas y tallos de </a:t>
            </a:r>
            <a:r>
              <a:rPr b="0" lang="es-ES" sz="2400" spc="-1" strike="noStrike">
                <a:solidFill>
                  <a:srgbClr val="cc00ff"/>
                </a:solidFill>
                <a:latin typeface="Arial Black"/>
              </a:rPr>
              <a:t>color purpúreo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 ; este síntoma se nota primero en las hojas más vie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Desarrollo  y madurez lentos y aspecto raquítico  en los tall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ala germinación de las semillas 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Bajo rendimiento de frutos y semill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excesos de P no son notorios a primera vista, pero pueden ocasionar deficiencia de Cu y de Z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2292-5D70-485D-98FC-5E54FF69761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POTA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plantas lo toman  en forma de K</a:t>
            </a:r>
            <a:r>
              <a:rPr b="0" lang="es-ES" sz="2400" spc="-1" strike="noStrike" baseline="-25000">
                <a:solidFill>
                  <a:srgbClr val="ff6699"/>
                </a:solidFill>
                <a:latin typeface="Arial Black"/>
              </a:rPr>
              <a:t>2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torga a las plantas gran vigor  y resistencia contra las enfermedades y bajas temperatur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la producción de proteína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umenta el tamaño de las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ejora la calidad de los frut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l desarrollo de los tubércul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Favorece la formación del color rojo en hojas y frut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D6F-A123-4989-A2F3-4A088B89E8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92504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POTA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39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- Las hojas de la parte más baja se queman en los bordes y puntas; generalmente la  vena central conserva el color verde; también tienden a enrollarse 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- Debido al pobre desarrollo  de las raíces , las plantas se degeneran  antes de llegar a la etapa de produc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- En las leguminosas  da lugar a semillas  arrugadas y desfiguradas que no germinan  o que originan  plántulas débi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E99-09C4-4EF6-860D-BEC234C3B8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POTA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14080" y="2001600"/>
            <a:ext cx="8629560" cy="3198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es común la absorción de exceso de K, pero altos niveles de él  en las soluciones nutritivas  pueden ocasionar deficiencia  de magnesio  y también  de Mn, Zn  y Fe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5AF-901A-4080-82DC-ACF9F0F184F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848360" cy="13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ALC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absorbido en forma de Ca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tiva la formación y crecimiento de las raíc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Mejora el vigor general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eutraliza las sustancias tóxicas que producen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timula la producción de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umenta el contenido de Ca en el alimento humano y anim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3D93-1D41-45EF-B528-E5523E464C3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ELEMENTOS MAYORES : CALCIO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hojas jóvenes  de los brotes terminales se doblan, enrollan o arrugan   y se queman en sus puntas y bordes:  </a:t>
            </a:r>
            <a:r>
              <a:rPr b="0" lang="es-ES" sz="2400" spc="-1" strike="noStrike">
                <a:solidFill>
                  <a:srgbClr val="808080"/>
                </a:solidFill>
                <a:latin typeface="Arial Black"/>
              </a:rPr>
              <a:t>pico de lor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n las áreas terminales pueden aparecer brotes  nuevos de color blanquecin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uede producirse la muerte de los extremos de las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n los tomates  y sandías la deficiencia de Ca  ocasiona el hundimiento  y posterior pudrición seca de los frutos en el extremo opuesto al pedúnculo: </a:t>
            </a:r>
            <a:r>
              <a:rPr b="0" lang="es-ES" sz="2400" spc="-1" strike="noStrike">
                <a:solidFill>
                  <a:srgbClr val="808080"/>
                </a:solidFill>
                <a:latin typeface="Arial Black"/>
              </a:rPr>
              <a:t>pudrición apic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85F-50F9-4D3E-85B2-7B7677446D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84872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ALC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848960"/>
            <a:ext cx="8458200" cy="331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se conocen síntomas de toxicidad por excesos, pero éstos pueden alterar   la acidez del medio de desarrollo de la raíz  y esto si afecta la disponibilidad de otros  elementos para la plant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9D1D-7947-44CB-97E2-E5D7CBDE28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8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 Black"/>
              </a:rPr>
              <a:t>MODELO COMPARATIVO DE LAS  CARACTERISTICAS DE 2 TIPOS DE SUSTRATOS</a:t>
            </a:r>
            <a:endParaRPr b="0" lang="en-US" sz="2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066680"/>
            <a:ext cx="9144000" cy="52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947960" y="2133720"/>
            <a:ext cx="2281320" cy="1942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5510160" y="2114640"/>
            <a:ext cx="2281320" cy="1942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Freeform 24"/>
          <p:cNvSpPr/>
          <p:nvPr/>
        </p:nvSpPr>
        <p:spPr>
          <a:xfrm>
            <a:off x="6343560" y="2114640"/>
            <a:ext cx="723960" cy="1428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reeform 27"/>
          <p:cNvSpPr/>
          <p:nvPr/>
        </p:nvSpPr>
        <p:spPr>
          <a:xfrm>
            <a:off x="6524640" y="3200400"/>
            <a:ext cx="312840" cy="809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8"/>
          <p:cNvSpPr/>
          <p:nvPr/>
        </p:nvSpPr>
        <p:spPr>
          <a:xfrm>
            <a:off x="2981160" y="4019400"/>
            <a:ext cx="24768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3048120" y="2124000"/>
            <a:ext cx="419040" cy="2143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2971800" y="2090880"/>
            <a:ext cx="438120" cy="2395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6591240" y="4000680"/>
            <a:ext cx="24768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6210360" y="2104920"/>
            <a:ext cx="762120" cy="2448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3446640" y="113040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100 ml 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7027920" y="113040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100 ml 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357120" y="2571840"/>
            <a:ext cx="139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GR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7668360" y="2724120"/>
            <a:ext cx="13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1932"/>
                </a:solidFill>
                <a:latin typeface="Verdana"/>
              </a:rPr>
              <a:t>AR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1348920" y="4718160"/>
            <a:ext cx="22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&gt; Drenaje H</a:t>
            </a:r>
            <a:r>
              <a:rPr b="1" lang="es-ES_tradnl" sz="2400" spc="-1" strike="noStrike" baseline="-25000">
                <a:solidFill>
                  <a:srgbClr val="6666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5655960" y="4794120"/>
            <a:ext cx="22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&lt; Drenaje H</a:t>
            </a:r>
            <a:r>
              <a:rPr b="1" lang="es-ES_tradnl" sz="2400" spc="-1" strike="noStrike" baseline="-25000">
                <a:solidFill>
                  <a:srgbClr val="6666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6666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6"/>
          <p:cNvSpPr/>
          <p:nvPr/>
        </p:nvSpPr>
        <p:spPr>
          <a:xfrm>
            <a:off x="262800" y="515628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Verdana"/>
              </a:rPr>
              <a:t>&lt;Rentención de hum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37"/>
          <p:cNvSpPr/>
          <p:nvPr/>
        </p:nvSpPr>
        <p:spPr>
          <a:xfrm>
            <a:off x="4930560" y="523224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Verdana"/>
              </a:rPr>
              <a:t>&gt; Retención de hum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8"/>
          <p:cNvSpPr/>
          <p:nvPr/>
        </p:nvSpPr>
        <p:spPr>
          <a:xfrm>
            <a:off x="880560" y="578484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ff"/>
                </a:solidFill>
                <a:latin typeface="Verdana"/>
              </a:rPr>
              <a:t>Riegos + frec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5197320" y="57657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ff"/>
                </a:solidFill>
                <a:latin typeface="Verdana"/>
              </a:rPr>
              <a:t>Riegos + distan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0"/>
          <p:cNvSpPr/>
          <p:nvPr/>
        </p:nvSpPr>
        <p:spPr>
          <a:xfrm>
            <a:off x="3299760" y="4159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80 ml/5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6900120" y="4159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50 ml/5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43"/>
          <p:cNvSpPr/>
          <p:nvPr/>
        </p:nvSpPr>
        <p:spPr>
          <a:xfrm flipH="1">
            <a:off x="3219480" y="1390680"/>
            <a:ext cx="32400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44"/>
          <p:cNvSpPr/>
          <p:nvPr/>
        </p:nvSpPr>
        <p:spPr>
          <a:xfrm flipH="1">
            <a:off x="6724440" y="1371600"/>
            <a:ext cx="32364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81BF-E7B4-4EA0-A124-EA8B0F7C7BB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GNE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686800" cy="432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plantas lo absorben  como Mg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un componente esencial de la </a:t>
            </a:r>
            <a:r>
              <a:rPr b="0" lang="es-ES" sz="2400" spc="-1" strike="noStrike">
                <a:solidFill>
                  <a:srgbClr val="006600"/>
                </a:solidFill>
                <a:latin typeface="Arial Black"/>
              </a:rPr>
              <a:t>clorofil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necesario para la formación  de los azuca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regular la asimilación de otros nutrient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túa como transportador del fósforo dentro de la pla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romueve la formación  de grasas y aceit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D432-FE1B-4301-8159-3CC76786050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GNES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Pérdida del color verde, que ocasiona  en las hojas de abajo y continúa hacia arriba, pero las venas conservan el color verde: </a:t>
            </a:r>
            <a:r>
              <a:rPr b="0" lang="es-ES" sz="2400" spc="-1" strike="noStrike">
                <a:solidFill>
                  <a:srgbClr val="ff9900"/>
                </a:solidFill>
                <a:latin typeface="Arial Black"/>
              </a:rPr>
              <a:t>V invertid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tallos se forman débiles , y las raíces se ramifican y alargan excesivamen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hojas se tuercen hacia arriba a lo largo de los bord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o existen síntomas  visibles para identificar la toxicidad por Mg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9AF0-D87C-4A10-AA58-26F455B2985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AZUFR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un ingrediente esencial  de las proteín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 mantener el color verde intens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tiva la formación de nódulos nitrificantes en algunas especies  leguminosas (frijoles, soya, arvejas, habas)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timula la producción  de semill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yuda al crecimiento más vigoroso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66D-AAFB-4C80-826C-68D7F39D302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AYORES 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AZUFR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968480"/>
            <a:ext cx="8515440" cy="424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Cuando se presenta deficiencia, lo que no es muy frecuente, las hojas jóvenes toman color verde claro y sus venas un color más claro aún ; el espacio entre las nervaduras se sec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Los tallos son cortos, endebles, de color amarill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l desarrollo es lento y raquític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578-416B-4ED7-BA43-81529C89FBD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ELEMENTOS MENORES: COB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70% se concentra en la clorofila  y su función más importante se aprecia en la asimila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evero descenso en el desarrollo de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s  hojas   más jóvenes toman color verde oscuro, se enrollaron y aparece un moteado que va muriend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casa formación de la lámina de la hoja, disminución  de su tamaño  y enrrollamiento hacia la parte interna, lo cual limita la fotosíntesi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lorosis férrica, enanismo y oscurecimiento anormal de la zona de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77A-D973-421D-8F73-B183500DB0E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 B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363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Aumenta el rendimiento o mejora la calidad de las frutas, verduras y forrajes, está relacionado con la asimilación de Calcio y con la transferencia  del azúcar  dentro de las plant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importante  para la buena calidad de las semillas de las especies de leguminos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12B6-4B55-48DF-9B77-D3BB4481A3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92504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 B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32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nula el  crecimiento  de tejidos nuevos  y puede causar hinchazón  y decoloración     en los vértices  radiculares y muerte de  la zona apical  (terminal) de las raí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casiona tallos cortos en el apio, podredumbre  de color pardo en la cabeza  y a lo largo  del interior  del tallo de la coliflor, podredumbre en el corazón  del nabo, ennegrecimiento y desintegración  del centro de la remolacha de mes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850-63AD-44EF-8AA9-22A2C650F51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84872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 B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677960"/>
            <a:ext cx="9144000" cy="457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Se produce un amarillamiento del vértice de las hojas seguido de la muerte progresiva , que va avanzando  desde la parte basal de éstas  hasta los márgenes  y vértic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se deben exceder las cantidades de este elemento dentro de las soluciones nutritivas ni dentro de los sustratos, porque en dosis superiores a las recomendadas es muy tóxic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C61-EC23-4C59-AADB-9FD7B3BB6D4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ER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o forma parte de la clorofila, pero esta ligado con su biosíntesi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ausa un </a:t>
            </a:r>
            <a:r>
              <a:rPr b="0" lang="es-ES" sz="2400" spc="-1" strike="noStrike">
                <a:solidFill>
                  <a:srgbClr val="ff9900"/>
                </a:solidFill>
                <a:latin typeface="Arial Black"/>
              </a:rPr>
              <a:t>color pálido amarillento del follaje</a:t>
            </a: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, aunque haya cantidades apropiadas  de nitrógeno en la solución nutritiv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Ocasiona una banda de color claro  en los bordes de las hojas  y la formación de raíces cortas y muy ramificad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 deficiencia de hierro se parece mucho a las del magnesio, pero la del hierro aparece en hojas  más jóven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A43C-BBF4-4D3A-AF7D-9666B3A5FD3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ER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234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No se han establecido síntomas visuales  de toxicidad de hierro  absorbido por la raíz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A1AC-CF16-4A6E-B976-75EB5141E1A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6240" y="-36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TIPOS DE SUSTRAT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168560"/>
            <a:ext cx="9144000" cy="499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INORGANICOS 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GRAV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ORGANICOS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CASCARA DE ARROZ                             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                           ASERRI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MEZCLAS MAS USADA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gruesa 50% + arena fina 50%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 fina 50% + cáscara de arroz 50%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rena gruesa 40% +cáscara de arroz 60%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562200" y="1238400"/>
            <a:ext cx="438480" cy="990360"/>
          </a:xfrm>
          <a:custGeom>
            <a:avLst/>
            <a:gdLst>
              <a:gd name="textAreaLeft" fmla="*/ 280080 w 438480"/>
              <a:gd name="textAreaRight" fmla="*/ 438840 w 4384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067200" y="2343240"/>
            <a:ext cx="438120" cy="990360"/>
          </a:xfrm>
          <a:custGeom>
            <a:avLst/>
            <a:gdLst>
              <a:gd name="textAreaLeft" fmla="*/ 280080 w 438120"/>
              <a:gd name="textAreaRight" fmla="*/ 438480 w 4381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1110-0BA1-4B87-BF54-EBE6C4397B0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NGANES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celera la germinación y madura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umenta el aprovechamiento del Ca, el Mg y el P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Cataliza en la síntesis de la clorofila  y ejerce funciones en la fotosíntesi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n tomates y remolachas causa la aparición  de color verde pálido, amarillo y rojo entre las hoj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síntoma de clorosis  se presenta igualmente  entre las venas  de las hojas viejas o jóvenes , dependiendo de la especie; estas hojas posteriormente  mueren y se seca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43C4-505E-4B1B-868A-A0458C0DC85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ZIN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044800"/>
            <a:ext cx="830592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necesario para la formación  normal de la clorofila y para el crecimient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s un importante  activador  de las enzimas que tienen  que ver con la síntesis  de proteínas, por lo cual  las plantas deficientes  en zinc  son pobres en ell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9911-B740-4278-B990-6964B193A41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ZIN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u deficiencia en tomate  ocasiona un ennegrecimiento  basal de los peciolos  de las hojas, pero disminuye  su longitud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a lámina foliar  toma una coloración pálida  y  una consistencia gruesa apergaminada, con entorchamiento hacia afuera  y con ondulaciones en los bord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tamaño de los entrenudos  y el de las hojas se reduce, especialmente en su anchur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excesos de zinc producen clorosis férrica en las plan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C30-3524-4C47-8B54-F415040B35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LIBD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s esencial en la fijación del N que hacen las legumb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síntomas se parecen a los del N, porque la clorosis (amarillamiento) avanza desde las hojas más viejas hacia las más jóvenes, las que se ahuecan  y se queman en los bord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No se forma la lámina de las hojas, por lo que sólo aparece la nervadura centra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Afecta negativamente el desarrollo de las especies crucíferas (repollo, coliflor, brócoli) , la remolacha, tomates y legumb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1D96-9151-4D59-8CF8-4B9D0A1E2D4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84872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LIBD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458200" cy="3408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99"/>
                </a:solidFill>
                <a:latin typeface="Arial Black"/>
              </a:rPr>
              <a:t>En tomate, los excesos se manifiestan con la aparición  de un color amarillo brillante  en la coliflor , con la aparición  de un color púrpura brillante  en sus primeros estados de desarroll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6D0-34D4-430E-86CA-FD95EA7C18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ELEMENTOS MENORES: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LO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Deficienc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Se produce marchitamiento inicial de las hojas, que luego se vuelven cloróticas, originando un color bronceado; después se muere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El desarrollo de las raíces es pobre y se produce  un engrosamiento anormal cerca de sus extrem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 Black"/>
              </a:rPr>
              <a:t>Toxicidad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Arial Black"/>
              </a:rPr>
              <a:t>Los excesos  producen  el quemado de los bordes y extremos de las hojas; su tamaño se reduce y hay, en general, poco desarroll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84E4-D265-4036-8D68-EC2716DE0F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06" name="Object 3"/>
          <p:cNvGraphicFramePr/>
          <p:nvPr/>
        </p:nvGraphicFramePr>
        <p:xfrm>
          <a:off x="457200" y="803160"/>
          <a:ext cx="8229600" cy="53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03160"/>
                    <a:ext cx="8229600" cy="5386680"/>
                  </a:xfrm>
                  <a:prstGeom prst="rect">
                    <a:avLst/>
                  </a:prstGeom>
                  <a:ln w="9360">
                    <a:solidFill>
                      <a:srgbClr val="cc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E0F-DC0B-4F9C-99A7-1B64B7F5A3C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15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 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RUTILL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31632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7345-B425-4DA9-8192-ADB85A1A3D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 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RUTILL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41604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CBF-5B5E-4776-8316-0821E9AB8F0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NUTRICION </a:t>
            </a: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FRUTILL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413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00FF-436E-4F82-8885-5B4B379613D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 Black"/>
              </a:rPr>
              <a:t>COMPARACION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380880"/>
            <a:ext cx="9144000" cy="58676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60520" y="457200"/>
            <a:ext cx="352728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Arial Black"/>
              </a:rPr>
              <a:t>CULTIVO TRA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958640" y="533520"/>
            <a:ext cx="981000" cy="398880"/>
          </a:xfrm>
          <a:prstGeom prst="rect">
            <a:avLst/>
          </a:prstGeom>
          <a:solidFill>
            <a:srgbClr val="ffcc66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Arial Black"/>
              </a:rPr>
              <a:t>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317400" y="1166760"/>
            <a:ext cx="1639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INORGA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729040" y="1143000"/>
            <a:ext cx="1387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ORGA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600200" y="2438280"/>
            <a:ext cx="266688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MINER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DESCO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5486400" y="2438280"/>
            <a:ext cx="25146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MINER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DESCO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778200" y="3581280"/>
            <a:ext cx="1406160" cy="642600"/>
          </a:xfrm>
          <a:prstGeom prst="rect">
            <a:avLst/>
          </a:prstGeom>
          <a:solidFill>
            <a:srgbClr val="01b0ff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SOLUC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DEL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68000" y="3733920"/>
            <a:ext cx="1956240" cy="91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CONTACTO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LAS RAICES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5050"/>
                </a:solidFill>
                <a:latin typeface="Arial Black"/>
              </a:rPr>
              <a:t>LAS PLA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4558680" y="4572000"/>
            <a:ext cx="369360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Arial Black"/>
              </a:rPr>
              <a:t>CULTIVO HIDROPO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047400" y="5410080"/>
            <a:ext cx="1759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SOLUCION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NUTR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915600" y="5334120"/>
            <a:ext cx="1732320" cy="642600"/>
          </a:xfrm>
          <a:prstGeom prst="rect">
            <a:avLst/>
          </a:prstGeom>
          <a:solidFill>
            <a:srgbClr val="ffcccc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S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 Black"/>
              </a:rPr>
              <a:t>INORGA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92200" y="5105520"/>
            <a:ext cx="1555200" cy="916920"/>
          </a:xfrm>
          <a:prstGeom prst="rect">
            <a:avLst/>
          </a:prstGeom>
          <a:solidFill>
            <a:srgbClr val="00cc0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ABSORC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DE AGU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MI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774400" y="1828800"/>
            <a:ext cx="1017360" cy="368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HUM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905480" y="1523880"/>
            <a:ext cx="13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Arena,l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arcilla,gr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6981120" y="1498680"/>
            <a:ext cx="21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Descomposición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hongos y bac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5321160" y="3632040"/>
            <a:ext cx="20336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Disueltos en e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agua del su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5245200" y="5156280"/>
            <a:ext cx="142848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Disuel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5050"/>
                </a:solidFill>
                <a:latin typeface="Arial Black"/>
              </a:rPr>
              <a:t>en el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1"/>
          <p:cNvSpPr/>
          <p:nvPr/>
        </p:nvSpPr>
        <p:spPr>
          <a:xfrm flipH="1">
            <a:off x="4190760" y="838080"/>
            <a:ext cx="68580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6019920" y="838080"/>
            <a:ext cx="53316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3429000" y="1523880"/>
            <a:ext cx="0" cy="9144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6400800" y="1523880"/>
            <a:ext cx="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3505320" y="3124080"/>
            <a:ext cx="0" cy="15264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24480" y="3124080"/>
            <a:ext cx="0" cy="15264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3505320" y="3276720"/>
            <a:ext cx="281916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590560" y="3809880"/>
            <a:ext cx="1066680" cy="3049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 flipH="1">
            <a:off x="4952880" y="571500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 flipH="1" flipV="1">
            <a:off x="2590560" y="4266720"/>
            <a:ext cx="990360" cy="1143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3"/>
          <p:cNvSpPr/>
          <p:nvPr/>
        </p:nvSpPr>
        <p:spPr>
          <a:xfrm>
            <a:off x="1143000" y="4648320"/>
            <a:ext cx="0" cy="4572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34"/>
          <p:cNvSpPr/>
          <p:nvPr/>
        </p:nvSpPr>
        <p:spPr>
          <a:xfrm>
            <a:off x="1600200" y="4648320"/>
            <a:ext cx="0" cy="4572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2539-9B86-43DF-AC49-E98F44AEB57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SOLUCION NUTRITIVA: UPCH - ROSSI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-360" y="1581120"/>
            <a:ext cx="4724280" cy="419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omposición Solución Concentrada A 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10 litros de agua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Superfos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alcio triple              52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Potasio  11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Amonio    4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Calcio      8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62080" y="1561680"/>
            <a:ext cx="4381560" cy="42102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mposición solución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ncentrada B :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5 litros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Sul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Magnesio               8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Fetrilom Combi        35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Acido Bórico              6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376-EAE4-4B4A-B8ED-9738D060D39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SOLUCION NUTRITIVA: UNA </a:t>
            </a:r>
            <a:r>
              <a:rPr b="0" lang="es-ES_tradnl" sz="2800" spc="-1" strike="noStrike">
                <a:solidFill>
                  <a:srgbClr val="008000"/>
                </a:solidFill>
                <a:latin typeface="Arial Black"/>
              </a:rPr>
              <a:t>(1996)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6292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omposición Solución Concentrada A 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10 litros de agua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Superfos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Calcio triple            3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Potasio 107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9900"/>
                </a:solidFill>
                <a:latin typeface="Arial Black"/>
              </a:rPr>
              <a:t>Nitrato de Amonio   700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6480" y="1828440"/>
            <a:ext cx="4457520" cy="3962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mposición solución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Concentrada B :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b2b2b2"/>
                </a:solidFill>
                <a:latin typeface="Arial Black"/>
              </a:rPr>
              <a:t>(para 5 litros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Sulfato de 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    </a:t>
            </a: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Magnesio               10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Fetrilom Combi        30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6699"/>
                </a:solidFill>
                <a:latin typeface="Arial Black"/>
              </a:rPr>
              <a:t>Acido Bórico              3 gr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5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6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104E-30CD-4DF5-BC98-58C72331B7A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SOLUCION NUTRI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200240"/>
            <a:ext cx="9144000" cy="51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Verdana"/>
              </a:rPr>
              <a:t>MODO DE EMPLE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) Solución FULL o COMPLETA</a:t>
            </a:r>
            <a:r>
              <a:rPr b="1" lang="es-ES_tradnl" sz="2800" spc="-1" strike="noStrike">
                <a:solidFill>
                  <a:srgbClr val="0000ff"/>
                </a:solidFill>
                <a:latin typeface="Arial Black"/>
              </a:rPr>
              <a:t>:</a:t>
            </a:r>
            <a:r>
              <a:rPr b="0" lang="es-ES_tradnl" sz="20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9900ff"/>
                </a:solidFill>
                <a:latin typeface="Arial Black"/>
              </a:rPr>
              <a:t>Meses de invierno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or cada litro de agua     5 ml solución concentrada 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2 ml solución concentrada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b) Solución MEDIO FULL o MEDIA CONCENTRACION: </a:t>
            </a:r>
            <a:r>
              <a:rPr b="0" lang="es-ES_tradnl" sz="2000" spc="-1" strike="noStrike">
                <a:solidFill>
                  <a:srgbClr val="ff6600"/>
                </a:solidFill>
                <a:latin typeface="Arial Black"/>
              </a:rPr>
              <a:t>Meses de verano</a:t>
            </a:r>
            <a:r>
              <a:rPr b="0" lang="es-ES_tradnl" sz="2000" spc="-1" strike="noStrike">
                <a:solidFill>
                  <a:srgbClr val="ff99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or cada litro de agua     2.5 ml solución concentrada 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 ml solución concentrada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99"/>
                </a:solidFill>
                <a:latin typeface="Verdana"/>
              </a:rPr>
              <a:t>Ambas soluciones deben mezclarse siempre en presencia de agu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3695760" y="2228760"/>
            <a:ext cx="342720" cy="895320"/>
          </a:xfrm>
          <a:custGeom>
            <a:avLst/>
            <a:gdLst>
              <a:gd name="textAreaLeft" fmla="*/ 218880 w 342720"/>
              <a:gd name="textAreaRight" fmla="*/ 343080 w 34272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3676680" y="4572000"/>
            <a:ext cx="361800" cy="819000"/>
          </a:xfrm>
          <a:custGeom>
            <a:avLst/>
            <a:gdLst>
              <a:gd name="textAreaLeft" fmla="*/ 231120 w 361800"/>
              <a:gd name="textAreaRight" fmla="*/ 362160 w 36180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8AE2-004D-4D1D-9401-9CD42474A9E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</a:t>
            </a:r>
            <a:br>
              <a:rPr sz="4000"/>
            </a:br>
            <a:r>
              <a:rPr b="0" lang="es-ES_tradnl" sz="3200" spc="-1" strike="noStrike">
                <a:solidFill>
                  <a:srgbClr val="009900"/>
                </a:solidFill>
                <a:latin typeface="Arial Black"/>
              </a:rPr>
              <a:t>MANEJO INTEGRADO DE PLAG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33cc33"/>
                </a:solidFill>
                <a:latin typeface="Impact"/>
              </a:rPr>
              <a:t>Plag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Agentes perturbadores que afectan la cantidad y la calidad de los productos hortícolas--&gt;</a:t>
            </a:r>
            <a:r>
              <a:rPr b="0" lang="es-ES_tradnl" sz="2500" spc="-1" strike="noStrike">
                <a:solidFill>
                  <a:srgbClr val="ccff99"/>
                </a:solidFill>
                <a:latin typeface="Impact"/>
              </a:rPr>
              <a:t>Fitófagos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ccff"/>
                </a:solidFill>
                <a:latin typeface="Impact"/>
              </a:rPr>
              <a:t>Detección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Se recomienda revisar diariamente la huerta (total o parcialmente)--&gt;5 minutos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cc00"/>
                </a:solidFill>
                <a:latin typeface="Impact"/>
              </a:rPr>
              <a:t>MANEJO INTEGRADO DE PLAGAS ( MIP )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Consiste en utilizar diversos métodos  de control para reducir la densidad de la población de una plaga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a) </a:t>
            </a:r>
            <a:r>
              <a:rPr b="0" lang="es-ES_tradnl" sz="2500" spc="-1" strike="noStrike">
                <a:solidFill>
                  <a:srgbClr val="33cc33"/>
                </a:solidFill>
                <a:latin typeface="Impact"/>
              </a:rPr>
              <a:t>Control biológico.                                                                                                          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b) </a:t>
            </a:r>
            <a:r>
              <a:rPr b="0" lang="es-ES_tradnl" sz="2500" spc="-1" strike="noStrike">
                <a:solidFill>
                  <a:srgbClr val="ff9933"/>
                </a:solidFill>
                <a:latin typeface="Impact"/>
              </a:rPr>
              <a:t>Control etológic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                                                                                                           c) </a:t>
            </a:r>
            <a:r>
              <a:rPr b="0" lang="es-ES_tradnl" sz="2500" spc="-1" strike="noStrike">
                <a:solidFill>
                  <a:srgbClr val="ffcc99"/>
                </a:solidFill>
                <a:latin typeface="Impact"/>
              </a:rPr>
              <a:t>Control físico - mecánic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d) </a:t>
            </a:r>
            <a:r>
              <a:rPr b="0" lang="es-ES_tradnl" sz="2500" spc="-1" strike="noStrike">
                <a:solidFill>
                  <a:srgbClr val="66ff99"/>
                </a:solidFill>
                <a:latin typeface="Impact"/>
              </a:rPr>
              <a:t>Control con plantas biocid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e) </a:t>
            </a:r>
            <a:r>
              <a:rPr b="0" lang="es-ES_tradnl" sz="2500" spc="-1" strike="noStrike">
                <a:solidFill>
                  <a:srgbClr val="ff3300"/>
                </a:solidFill>
                <a:latin typeface="Impact"/>
              </a:rPr>
              <a:t>Control químic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808080"/>
                </a:solidFill>
                <a:latin typeface="Impact"/>
              </a:rPr>
              <a:t>(evitar)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67D-723D-46A9-AF07-3BECF04D2E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5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AFIDOS: PULGONES</a:t>
            </a: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685800" y="914400"/>
          <a:ext cx="80773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77320" cy="53308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99F5-FAF0-4BF2-8C82-B123306AC3A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SCA MINADORA Y SUS    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   EFECT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85800"/>
          <a:ext cx="495288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952880" cy="327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0" name="Object 4"/>
          <p:cNvGraphicFramePr/>
          <p:nvPr/>
        </p:nvGraphicFramePr>
        <p:xfrm>
          <a:off x="3657600" y="2703600"/>
          <a:ext cx="5486400" cy="36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703600"/>
                    <a:ext cx="5486400" cy="3620880"/>
                  </a:xfrm>
                  <a:prstGeom prst="rect">
                    <a:avLst/>
                  </a:prstGeom>
                  <a:ln w="9360">
                    <a:solidFill>
                      <a:srgbClr val="99ff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4C95-D4AF-466A-9580-D21D80176C8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5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OSCA BLANCA</a:t>
            </a: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762120" y="914400"/>
          <a:ext cx="807696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8076960" cy="53308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A2C-A2AD-441B-9F4F-232E97280B0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2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ff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3600" spc="-1" strike="noStrike">
                <a:solidFill>
                  <a:srgbClr val="00ff00"/>
                </a:solidFill>
                <a:latin typeface="Arial Black"/>
              </a:rPr>
              <a:t>MIP-CONTROL BIOLOGICO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085400"/>
            <a:ext cx="9144000" cy="516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Uso de controladores biológicos contra los fitófagos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99ffcc"/>
                </a:solidFill>
                <a:latin typeface="Impact"/>
              </a:rPr>
              <a:t>Tipos de Control Biológico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(C.B.)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1) </a:t>
            </a:r>
            <a:r>
              <a:rPr b="0" lang="es-ES_tradnl" sz="2500" spc="-1" strike="noStrike">
                <a:solidFill>
                  <a:srgbClr val="99ff99"/>
                </a:solidFill>
                <a:latin typeface="Impact"/>
              </a:rPr>
              <a:t>Natural   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        2) </a:t>
            </a:r>
            <a:r>
              <a:rPr b="0" lang="es-ES_tradnl" sz="2500" spc="-1" strike="noStrike">
                <a:solidFill>
                  <a:srgbClr val="ffff66"/>
                </a:solidFill>
                <a:latin typeface="Impact"/>
              </a:rPr>
              <a:t>Aplicado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(Hombre manipula los C.B.)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L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99ffcc"/>
                </a:solidFill>
                <a:latin typeface="Impact"/>
              </a:rPr>
              <a:t>controladores  biológic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son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                                                                                                                      a) </a:t>
            </a:r>
            <a:r>
              <a:rPr b="0" lang="es-ES_tradnl" sz="2500" spc="-1" strike="noStrike">
                <a:solidFill>
                  <a:srgbClr val="ff9900"/>
                </a:solidFill>
                <a:latin typeface="Impact"/>
              </a:rPr>
              <a:t>Parasitoide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Insectos que viven a expensas del cuerpo de otro insecto. Atacan: huevos,larvas,ninfas, pupas o adultos 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2500" spc="-1" strike="noStrike">
                <a:solidFill>
                  <a:srgbClr val="ff9900"/>
                </a:solidFill>
                <a:latin typeface="Impact"/>
              </a:rPr>
              <a:t>Avispas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y</a:t>
            </a:r>
            <a:r>
              <a:rPr b="0" lang="es-ES_tradnl" sz="2500" spc="-1" strike="noStrike">
                <a:solidFill>
                  <a:srgbClr val="ff9900"/>
                </a:solidFill>
                <a:latin typeface="Impact"/>
              </a:rPr>
              <a:t> mosc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b) </a:t>
            </a:r>
            <a:r>
              <a:rPr b="0" lang="es-ES_tradnl" sz="2500" spc="-1" strike="noStrike">
                <a:solidFill>
                  <a:srgbClr val="ff99ff"/>
                </a:solidFill>
                <a:latin typeface="Impact"/>
              </a:rPr>
              <a:t>Predatores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Organismos  que se alimentan de la plaga: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ff99ff"/>
                </a:solidFill>
                <a:latin typeface="Impact"/>
              </a:rPr>
              <a:t>Mariquit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24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c) 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Patógen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: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Producen enfermedades en las plaga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: 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Viru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,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 bacterias </a:t>
            </a:r>
            <a:r>
              <a:rPr b="0" lang="es-ES_tradnl" sz="2500" spc="-1" strike="noStrike">
                <a:solidFill>
                  <a:srgbClr val="0000ff"/>
                </a:solidFill>
                <a:latin typeface="Impact"/>
              </a:rPr>
              <a:t>y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500" spc="-1" strike="noStrike">
                <a:solidFill>
                  <a:srgbClr val="ff7c80"/>
                </a:solidFill>
                <a:latin typeface="Impact"/>
              </a:rPr>
              <a:t>hongos</a:t>
            </a:r>
            <a:r>
              <a:rPr b="0" lang="es-ES_tradnl" sz="25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EA6-2E87-4BEF-AA4A-0EC5C2DEC03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CONTROL BIOLOGICO</a:t>
            </a:r>
            <a:br>
              <a:rPr sz="4400"/>
            </a:b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PARASITOID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64" name="Object 3"/>
          <p:cNvGraphicFramePr/>
          <p:nvPr/>
        </p:nvGraphicFramePr>
        <p:xfrm>
          <a:off x="1295280" y="1325520"/>
          <a:ext cx="739152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25520"/>
                    <a:ext cx="7391520" cy="487836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6368-96AD-41AA-AB07-95A12F969D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CONTROL BIOLOGICO</a:t>
            </a:r>
            <a:br>
              <a:rPr sz="4400"/>
            </a:b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PREDATORES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69" name="Object 3"/>
          <p:cNvGraphicFramePr/>
          <p:nvPr/>
        </p:nvGraphicFramePr>
        <p:xfrm>
          <a:off x="1295280" y="1300320"/>
          <a:ext cx="7467840" cy="49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00320"/>
                    <a:ext cx="7467840" cy="4927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8254-634F-4472-90FC-D689EEDCFD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OMPARAC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59040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71360" y="3581280"/>
            <a:ext cx="3029040" cy="20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1581120" y="3390840"/>
            <a:ext cx="80028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758880" y="1631880"/>
            <a:ext cx="1168200" cy="21751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1146240" y="1320840"/>
            <a:ext cx="1079280" cy="24382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171756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12"/>
          <p:cNvSpPr/>
          <p:nvPr/>
        </p:nvSpPr>
        <p:spPr>
          <a:xfrm>
            <a:off x="819000" y="191124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050920" y="15271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15"/>
          <p:cNvSpPr/>
          <p:nvPr/>
        </p:nvSpPr>
        <p:spPr>
          <a:xfrm>
            <a:off x="2025720" y="1825560"/>
            <a:ext cx="1724040" cy="17017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2019240" y="2016000"/>
            <a:ext cx="1476360" cy="15782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eeform 18"/>
          <p:cNvSpPr/>
          <p:nvPr/>
        </p:nvSpPr>
        <p:spPr>
          <a:xfrm>
            <a:off x="2190600" y="3695760"/>
            <a:ext cx="704880" cy="16574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eeform 19"/>
          <p:cNvSpPr/>
          <p:nvPr/>
        </p:nvSpPr>
        <p:spPr>
          <a:xfrm>
            <a:off x="1924200" y="3695760"/>
            <a:ext cx="1047600" cy="175248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reeform 20"/>
          <p:cNvSpPr/>
          <p:nvPr/>
        </p:nvSpPr>
        <p:spPr>
          <a:xfrm>
            <a:off x="1959120" y="3657600"/>
            <a:ext cx="422280" cy="17906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21"/>
          <p:cNvSpPr/>
          <p:nvPr/>
        </p:nvSpPr>
        <p:spPr>
          <a:xfrm>
            <a:off x="1276200" y="3733920"/>
            <a:ext cx="571680" cy="17334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2"/>
          <p:cNvSpPr/>
          <p:nvPr/>
        </p:nvSpPr>
        <p:spPr>
          <a:xfrm>
            <a:off x="647640" y="3695760"/>
            <a:ext cx="1162080" cy="17334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reeform 23"/>
          <p:cNvSpPr/>
          <p:nvPr/>
        </p:nvSpPr>
        <p:spPr>
          <a:xfrm>
            <a:off x="466560" y="3657600"/>
            <a:ext cx="1266840" cy="18288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24"/>
          <p:cNvSpPr/>
          <p:nvPr/>
        </p:nvSpPr>
        <p:spPr>
          <a:xfrm>
            <a:off x="2438280" y="4734000"/>
            <a:ext cx="457200" cy="4096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reeform 25"/>
          <p:cNvSpPr/>
          <p:nvPr/>
        </p:nvSpPr>
        <p:spPr>
          <a:xfrm>
            <a:off x="1790640" y="4610160"/>
            <a:ext cx="362160" cy="5522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reeform 26"/>
          <p:cNvSpPr/>
          <p:nvPr/>
        </p:nvSpPr>
        <p:spPr>
          <a:xfrm>
            <a:off x="1000080" y="4591080"/>
            <a:ext cx="276120" cy="8762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Freeform 27"/>
          <p:cNvSpPr/>
          <p:nvPr/>
        </p:nvSpPr>
        <p:spPr>
          <a:xfrm>
            <a:off x="324000" y="4857840"/>
            <a:ext cx="476280" cy="6476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reeform 29"/>
          <p:cNvSpPr/>
          <p:nvPr/>
        </p:nvSpPr>
        <p:spPr>
          <a:xfrm>
            <a:off x="1523880" y="4971960"/>
            <a:ext cx="114480" cy="4762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0"/>
          <p:cNvSpPr/>
          <p:nvPr/>
        </p:nvSpPr>
        <p:spPr>
          <a:xfrm>
            <a:off x="4591080" y="3524400"/>
            <a:ext cx="2762280" cy="167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31"/>
          <p:cNvSpPr/>
          <p:nvPr/>
        </p:nvSpPr>
        <p:spPr>
          <a:xfrm>
            <a:off x="2533680" y="4343400"/>
            <a:ext cx="514440" cy="81900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32"/>
          <p:cNvSpPr/>
          <p:nvPr/>
        </p:nvSpPr>
        <p:spPr>
          <a:xfrm>
            <a:off x="2171880" y="2206800"/>
            <a:ext cx="1647720" cy="13683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41"/>
          <p:cNvSpPr/>
          <p:nvPr/>
        </p:nvSpPr>
        <p:spPr>
          <a:xfrm>
            <a:off x="5562720" y="3390840"/>
            <a:ext cx="79992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34"/>
          <p:cNvSpPr/>
          <p:nvPr/>
        </p:nvSpPr>
        <p:spPr>
          <a:xfrm>
            <a:off x="4873680" y="1517760"/>
            <a:ext cx="1168200" cy="21747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35"/>
          <p:cNvSpPr/>
          <p:nvPr/>
        </p:nvSpPr>
        <p:spPr>
          <a:xfrm>
            <a:off x="5127480" y="1225440"/>
            <a:ext cx="1079640" cy="24386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43"/>
          <p:cNvSpPr/>
          <p:nvPr/>
        </p:nvSpPr>
        <p:spPr>
          <a:xfrm>
            <a:off x="6058080" y="3657600"/>
            <a:ext cx="1047600" cy="12002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44"/>
          <p:cNvSpPr/>
          <p:nvPr/>
        </p:nvSpPr>
        <p:spPr>
          <a:xfrm>
            <a:off x="6134040" y="3638520"/>
            <a:ext cx="495360" cy="11811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45"/>
          <p:cNvSpPr/>
          <p:nvPr/>
        </p:nvSpPr>
        <p:spPr>
          <a:xfrm>
            <a:off x="4772160" y="3638520"/>
            <a:ext cx="1095120" cy="14288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46"/>
          <p:cNvSpPr/>
          <p:nvPr/>
        </p:nvSpPr>
        <p:spPr>
          <a:xfrm>
            <a:off x="5143680" y="3733920"/>
            <a:ext cx="780840" cy="12380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Freeform 47"/>
          <p:cNvSpPr/>
          <p:nvPr/>
        </p:nvSpPr>
        <p:spPr>
          <a:xfrm>
            <a:off x="5486400" y="3733920"/>
            <a:ext cx="457200" cy="11430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Freeform 49"/>
          <p:cNvSpPr/>
          <p:nvPr/>
        </p:nvSpPr>
        <p:spPr>
          <a:xfrm>
            <a:off x="5883120" y="3638520"/>
            <a:ext cx="422280" cy="14670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50"/>
          <p:cNvSpPr/>
          <p:nvPr/>
        </p:nvSpPr>
        <p:spPr>
          <a:xfrm>
            <a:off x="4610160" y="3371760"/>
            <a:ext cx="19080" cy="17906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51"/>
          <p:cNvSpPr/>
          <p:nvPr/>
        </p:nvSpPr>
        <p:spPr>
          <a:xfrm>
            <a:off x="4629240" y="5181480"/>
            <a:ext cx="272412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52"/>
          <p:cNvSpPr/>
          <p:nvPr/>
        </p:nvSpPr>
        <p:spPr>
          <a:xfrm>
            <a:off x="7334280" y="3429000"/>
            <a:ext cx="0" cy="17715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53"/>
          <p:cNvSpPr/>
          <p:nvPr/>
        </p:nvSpPr>
        <p:spPr>
          <a:xfrm rot="5485200">
            <a:off x="7444440" y="4451760"/>
            <a:ext cx="238320" cy="852480"/>
          </a:xfrm>
          <a:prstGeom prst="can">
            <a:avLst>
              <a:gd name="adj" fmla="val 15430"/>
            </a:avLst>
          </a:prstGeom>
          <a:solidFill>
            <a:srgbClr val="96969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4"/>
          <p:cNvSpPr/>
          <p:nvPr/>
        </p:nvSpPr>
        <p:spPr>
          <a:xfrm>
            <a:off x="7524720" y="5505480"/>
            <a:ext cx="1100160" cy="762120"/>
          </a:xfrm>
          <a:prstGeom prst="pi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5"/>
          <p:cNvSpPr/>
          <p:nvPr/>
        </p:nvSpPr>
        <p:spPr>
          <a:xfrm>
            <a:off x="7772400" y="5867280"/>
            <a:ext cx="623880" cy="304920"/>
          </a:xfrm>
          <a:prstGeom prst="pi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56"/>
          <p:cNvSpPr/>
          <p:nvPr/>
        </p:nvSpPr>
        <p:spPr>
          <a:xfrm>
            <a:off x="7981920" y="5276880"/>
            <a:ext cx="133560" cy="20952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57"/>
          <p:cNvSpPr/>
          <p:nvPr/>
        </p:nvSpPr>
        <p:spPr>
          <a:xfrm>
            <a:off x="7981920" y="5562720"/>
            <a:ext cx="133560" cy="20952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372600" y="711360"/>
            <a:ext cx="332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6633"/>
                </a:solidFill>
                <a:latin typeface="Verdana"/>
              </a:rPr>
              <a:t>CULTIVO EN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0"/>
          <p:cNvSpPr/>
          <p:nvPr/>
        </p:nvSpPr>
        <p:spPr>
          <a:xfrm>
            <a:off x="4526640" y="692280"/>
            <a:ext cx="416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cc"/>
                </a:solidFill>
                <a:latin typeface="Verdana"/>
              </a:rPr>
              <a:t>CULTIVO HIDROPON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1"/>
          <p:cNvSpPr/>
          <p:nvPr/>
        </p:nvSpPr>
        <p:spPr>
          <a:xfrm>
            <a:off x="3081600" y="3032280"/>
            <a:ext cx="13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ie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ces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 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62"/>
          <p:cNvSpPr/>
          <p:nvPr/>
        </p:nvSpPr>
        <p:spPr>
          <a:xfrm>
            <a:off x="2933640" y="4381560"/>
            <a:ext cx="238320" cy="1433520"/>
          </a:xfrm>
          <a:prstGeom prst="downArrow">
            <a:avLst>
              <a:gd name="adj1" fmla="val 50000"/>
              <a:gd name="adj2" fmla="val 150378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3"/>
          <p:cNvSpPr/>
          <p:nvPr/>
        </p:nvSpPr>
        <p:spPr>
          <a:xfrm>
            <a:off x="2852640" y="4556160"/>
            <a:ext cx="18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Lavad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nutri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RD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4"/>
          <p:cNvSpPr/>
          <p:nvPr/>
        </p:nvSpPr>
        <p:spPr>
          <a:xfrm>
            <a:off x="7607160" y="2384280"/>
            <a:ext cx="15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Riego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olu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nutr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65"/>
          <p:cNvSpPr/>
          <p:nvPr/>
        </p:nvSpPr>
        <p:spPr>
          <a:xfrm>
            <a:off x="4813200" y="5172120"/>
            <a:ext cx="27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Reutilización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solución nutr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Symbol"/>
                <a:ea typeface="Symbol"/>
              </a:rPr>
              <a:t></a:t>
            </a:r>
            <a:r>
              <a:rPr b="1" lang="es-ES_tradnl" sz="2400" spc="-1" strike="noStrike">
                <a:solidFill>
                  <a:srgbClr val="009900"/>
                </a:solidFill>
                <a:latin typeface="Times New Roman"/>
              </a:rPr>
              <a:t>AHOR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7962840" y="4952880"/>
            <a:ext cx="133560" cy="20952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Freeform 67"/>
          <p:cNvSpPr/>
          <p:nvPr/>
        </p:nvSpPr>
        <p:spPr>
          <a:xfrm>
            <a:off x="7162920" y="3600360"/>
            <a:ext cx="1635120" cy="20764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68"/>
          <p:cNvSpPr/>
          <p:nvPr/>
        </p:nvSpPr>
        <p:spPr>
          <a:xfrm rot="8232600">
            <a:off x="2572920" y="3489480"/>
            <a:ext cx="803160" cy="272880"/>
          </a:xfrm>
          <a:custGeom>
            <a:avLst/>
            <a:gdLst>
              <a:gd name="textAreaLeft" fmla="*/ 100440 w 803160"/>
              <a:gd name="textAreaRight" fmla="*/ 703080 w 803160"/>
              <a:gd name="textAreaTop" fmla="*/ 68040 h 272880"/>
              <a:gd name="textAreaBottom" fmla="*/ 204840 h 272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9"/>
          <p:cNvSpPr/>
          <p:nvPr/>
        </p:nvSpPr>
        <p:spPr>
          <a:xfrm rot="8232600">
            <a:off x="6878160" y="3317400"/>
            <a:ext cx="803520" cy="273240"/>
          </a:xfrm>
          <a:custGeom>
            <a:avLst/>
            <a:gdLst>
              <a:gd name="textAreaLeft" fmla="*/ 100440 w 803520"/>
              <a:gd name="textAreaRight" fmla="*/ 703080 w 803520"/>
              <a:gd name="textAreaTop" fmla="*/ 68400 h 273240"/>
              <a:gd name="textAreaBottom" fmla="*/ 205200 h 273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Freeform 36"/>
          <p:cNvSpPr/>
          <p:nvPr/>
        </p:nvSpPr>
        <p:spPr>
          <a:xfrm>
            <a:off x="560376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Freeform 37"/>
          <p:cNvSpPr/>
          <p:nvPr/>
        </p:nvSpPr>
        <p:spPr>
          <a:xfrm>
            <a:off x="5994360" y="13939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Freeform 33"/>
          <p:cNvSpPr/>
          <p:nvPr/>
        </p:nvSpPr>
        <p:spPr>
          <a:xfrm>
            <a:off x="4819680" y="189216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reeform 38"/>
          <p:cNvSpPr/>
          <p:nvPr/>
        </p:nvSpPr>
        <p:spPr>
          <a:xfrm>
            <a:off x="5952960" y="1787400"/>
            <a:ext cx="1724040" cy="1702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Freeform 39"/>
          <p:cNvSpPr/>
          <p:nvPr/>
        </p:nvSpPr>
        <p:spPr>
          <a:xfrm>
            <a:off x="5962680" y="1978200"/>
            <a:ext cx="1476360" cy="15778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Freeform 40"/>
          <p:cNvSpPr/>
          <p:nvPr/>
        </p:nvSpPr>
        <p:spPr>
          <a:xfrm>
            <a:off x="5981760" y="2320920"/>
            <a:ext cx="1781280" cy="1216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FC6-8553-4756-8A0E-BF6D7CB039E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CONTROL BIOLOGICO</a:t>
            </a:r>
            <a:br>
              <a:rPr sz="4400"/>
            </a:b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PREDATORES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74" name="Object 4"/>
          <p:cNvGraphicFramePr/>
          <p:nvPr/>
        </p:nvGraphicFramePr>
        <p:xfrm>
          <a:off x="2438280" y="1295280"/>
          <a:ext cx="5096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5096160" cy="4886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E1CE-626A-4E30-9D55-D2381F76F70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Arial Black"/>
              </a:rPr>
              <a:t>HIDROPONIA - MIP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80800"/>
            <a:ext cx="9144000" cy="507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Impact"/>
              </a:rPr>
              <a:t>Control etológico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                                                                                                a)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Uso de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trampas amarilla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recubiertas con aceite de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carro.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                                                      b)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Uso de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trampas de luz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colocadas encima de recipientes con agua  y aceite quemado durante la noch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9900"/>
                </a:solidFill>
                <a:latin typeface="Impact"/>
              </a:rPr>
              <a:t>Control físico-químico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Limpiando las hojas con pinceles  o algodón embebido con agu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9933"/>
                </a:solidFill>
                <a:latin typeface="Impact"/>
              </a:rPr>
              <a:t>Control  con plantas biocidas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Uso de extractos de planta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repelentes  o bioinsecticid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Impact"/>
              </a:rPr>
              <a:t>Control químico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0000ff"/>
                </a:solidFill>
                <a:latin typeface="Impact"/>
              </a:rPr>
              <a:t>Empleo de agroquímicos los cuales son tóxicos y  tienen un efecto residual.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35EF-99E6-43DD-9A44-030150440D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19760" cy="133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CONTROL ETOLOGICO</a:t>
            </a: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s-ES_tradnl" sz="4000" spc="-1" strike="noStrike">
                <a:solidFill>
                  <a:srgbClr val="ffff00"/>
                </a:solidFill>
                <a:latin typeface="Arial Black"/>
              </a:rPr>
              <a:t>TRAMPAS AMARILLA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83" name="Object 3"/>
          <p:cNvGraphicFramePr/>
          <p:nvPr/>
        </p:nvGraphicFramePr>
        <p:xfrm>
          <a:off x="1434960" y="1352520"/>
          <a:ext cx="71755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352520"/>
                    <a:ext cx="7175520" cy="495936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27F-3069-4F9A-9D06-749675917E5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Black"/>
              </a:rPr>
              <a:t>CONTROL ETOLOGICO</a:t>
            </a: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s-ES_tradnl" sz="4000" spc="-1" strike="noStrike">
                <a:solidFill>
                  <a:srgbClr val="ffff00"/>
                </a:solidFill>
                <a:latin typeface="Arial Black"/>
              </a:rPr>
              <a:t>TRAMPAS AMARILLA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1790640" y="1249200"/>
          <a:ext cx="6362640" cy="50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1249200"/>
                    <a:ext cx="6362640" cy="5053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994-E3CC-41D7-BE25-6CD06CBCFC8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s-ES_tradnl" sz="4400" spc="-1" strike="noStrike">
                <a:solidFill>
                  <a:srgbClr val="ffff00"/>
                </a:solidFill>
                <a:latin typeface="Arial Black"/>
              </a:rPr>
              <a:t>VENTAJAS DE LA HIDROPONIA - I</a:t>
            </a:r>
            <a:r>
              <a:rPr b="0" lang="es-ES_tradnl" sz="4800" spc="-1" strike="noStrike">
                <a:solidFill>
                  <a:srgbClr val="ccffff"/>
                </a:solidFill>
                <a:latin typeface="Impact"/>
              </a:rPr>
              <a:t>   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) </a:t>
            </a:r>
            <a:r>
              <a:rPr b="0" lang="es-ES_tradnl" sz="2800" spc="-1" strike="noStrike">
                <a:solidFill>
                  <a:srgbClr val="ff9900"/>
                </a:solidFill>
                <a:latin typeface="Impact"/>
              </a:rPr>
              <a:t>Alta productividad de cultiv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2) </a:t>
            </a:r>
            <a:r>
              <a:rPr b="0" lang="es-ES_tradnl" sz="2800" spc="-1" strike="noStrike">
                <a:solidFill>
                  <a:srgbClr val="19e71e"/>
                </a:solidFill>
                <a:latin typeface="Impact"/>
              </a:rPr>
              <a:t>Maduración temprana y gran desarrollo de las planta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3) </a:t>
            </a:r>
            <a:r>
              <a:rPr b="0" lang="es-ES_tradnl" sz="2800" spc="-1" strike="noStrike">
                <a:solidFill>
                  <a:srgbClr val="0cd8f4"/>
                </a:solidFill>
                <a:latin typeface="Impact"/>
              </a:rPr>
              <a:t>Menor consumo de agu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4) </a:t>
            </a:r>
            <a:r>
              <a:rPr b="0" lang="es-ES_tradnl" sz="2800" spc="-1" strike="noStrike">
                <a:solidFill>
                  <a:srgbClr val="ff99ff"/>
                </a:solidFill>
                <a:latin typeface="Impact"/>
              </a:rPr>
              <a:t>Menor requerimiento de espacio para los cultiv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5) </a:t>
            </a:r>
            <a:r>
              <a:rPr b="0" lang="es-ES_tradnl" sz="2800" spc="-1" strike="noStrike">
                <a:solidFill>
                  <a:srgbClr val="009900"/>
                </a:solidFill>
                <a:latin typeface="Impact"/>
              </a:rPr>
              <a:t>Permite el empleo de un control biológic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6) </a:t>
            </a:r>
            <a:r>
              <a:rPr b="0" lang="es-ES_tradnl" sz="2800" spc="-1" strike="noStrike">
                <a:solidFill>
                  <a:srgbClr val="cc00ff"/>
                </a:solidFill>
                <a:latin typeface="Impact"/>
              </a:rPr>
              <a:t>Alta calidad de productos y mayor duració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7) </a:t>
            </a:r>
            <a:r>
              <a:rPr b="0" lang="es-ES_tradnl" sz="2800" spc="-1" strike="noStrike">
                <a:solidFill>
                  <a:srgbClr val="ff6600"/>
                </a:solidFill>
                <a:latin typeface="Impact"/>
              </a:rPr>
              <a:t>No hay crecimiento de malezas, al no usar el suel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8) </a:t>
            </a:r>
            <a:r>
              <a:rPr b="0" lang="es-ES_tradnl" sz="2800" spc="-1" strike="noStrike">
                <a:solidFill>
                  <a:srgbClr val="0099ff"/>
                </a:solidFill>
                <a:latin typeface="Impact"/>
              </a:rPr>
              <a:t>Se conserva mejor el medio de  cultiv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9) </a:t>
            </a:r>
            <a:r>
              <a:rPr b="0" lang="es-ES_tradnl" sz="2800" spc="-1" strike="noStrike">
                <a:solidFill>
                  <a:srgbClr val="c0c0c0"/>
                </a:solidFill>
                <a:latin typeface="Impact"/>
              </a:rPr>
              <a:t>Mejor control de los ambientes  y factores de cultiv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9C26-DDF8-4F70-A74F-ECD549E7C52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 Black"/>
              </a:rPr>
              <a:t>VENTAJAS DE LA HIDROPONIA - II</a:t>
            </a: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0) </a:t>
            </a:r>
            <a:r>
              <a:rPr b="0" lang="es-ES_tradnl" sz="2600" spc="-1" strike="noStrike">
                <a:solidFill>
                  <a:srgbClr val="00ff00"/>
                </a:solidFill>
                <a:latin typeface="Impact"/>
              </a:rPr>
              <a:t>No es necesario la rotación de los cultivo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1) </a:t>
            </a:r>
            <a:r>
              <a:rPr b="0" lang="es-ES_tradnl" sz="2600" spc="-1" strike="noStrike">
                <a:solidFill>
                  <a:srgbClr val="ffcc66"/>
                </a:solidFill>
                <a:latin typeface="Impact"/>
              </a:rPr>
              <a:t>Los productos son suceptibles  de ser adaptados a la mecanización  y automatización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2) </a:t>
            </a:r>
            <a:r>
              <a:rPr b="0" lang="es-ES_tradnl" sz="2600" spc="-1" strike="noStrike">
                <a:solidFill>
                  <a:srgbClr val="3399ff"/>
                </a:solidFill>
                <a:latin typeface="Impact"/>
              </a:rPr>
              <a:t>Los nutrientes pueden ser reutilizado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3) </a:t>
            </a:r>
            <a:r>
              <a:rPr b="0" lang="es-ES_tradnl" sz="2600" spc="-1" strike="noStrike">
                <a:solidFill>
                  <a:srgbClr val="c0c0c0"/>
                </a:solidFill>
                <a:latin typeface="Impact"/>
              </a:rPr>
              <a:t>Mayor limpieza e higiene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4) </a:t>
            </a:r>
            <a:r>
              <a:rPr b="0" lang="es-ES_tradnl" sz="2600" spc="-1" strike="noStrike">
                <a:solidFill>
                  <a:srgbClr val="ff9900"/>
                </a:solidFill>
                <a:latin typeface="Impact"/>
              </a:rPr>
              <a:t>Mayor precosidad de los cultivo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5) </a:t>
            </a:r>
            <a:r>
              <a:rPr b="0" lang="es-ES_tradnl" sz="2600" spc="-1" strike="noStrike">
                <a:solidFill>
                  <a:srgbClr val="ff7c80"/>
                </a:solidFill>
                <a:latin typeface="Impact"/>
              </a:rPr>
              <a:t>Casi no hay gasto de maquinaria agrícola,  no se requiere  de tractor , arado u otros implementos semejantes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6) </a:t>
            </a:r>
            <a:r>
              <a:rPr b="0" lang="es-ES_tradnl" sz="2600" spc="-1" strike="noStrike">
                <a:solidFill>
                  <a:srgbClr val="00ffff"/>
                </a:solidFill>
                <a:latin typeface="Impact"/>
              </a:rPr>
              <a:t>La recuperación de lo invertido es rápida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17) </a:t>
            </a:r>
            <a:r>
              <a:rPr b="0" lang="es-ES_tradnl" sz="2600" spc="-1" strike="noStrike">
                <a:solidFill>
                  <a:srgbClr val="ff99ff"/>
                </a:solidFill>
                <a:latin typeface="Impact"/>
              </a:rPr>
              <a:t>Perfecto control del pH</a:t>
            </a:r>
            <a:r>
              <a:rPr b="0" lang="es-ES_tradnl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4F5-8DE9-488B-8240-6324F4336C0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Arial Black"/>
              </a:rPr>
              <a:t>DESVENTAJAS DE LA</a:t>
            </a:r>
            <a:br>
              <a:rPr sz="4000"/>
            </a:br>
            <a:r>
              <a:rPr b="0" lang="es-ES_tradnl" sz="4000" spc="-1" strike="noStrike">
                <a:solidFill>
                  <a:srgbClr val="ff3300"/>
                </a:solidFill>
                <a:latin typeface="Arial Black"/>
              </a:rPr>
              <a:t>HIDROPONIA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1085400"/>
            <a:ext cx="914400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) </a:t>
            </a:r>
            <a:r>
              <a:rPr b="0" lang="es-ES_tradnl" sz="2400" spc="-1" strike="noStrike">
                <a:solidFill>
                  <a:srgbClr val="ff9900"/>
                </a:solidFill>
                <a:latin typeface="Impact"/>
              </a:rPr>
              <a:t>El costo de instalación puede ser alto, sobretodo a nivel comercial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2) </a:t>
            </a:r>
            <a:r>
              <a:rPr b="0" lang="es-ES_tradnl" sz="2400" spc="-1" strike="noStrike">
                <a:solidFill>
                  <a:srgbClr val="009900"/>
                </a:solidFill>
                <a:latin typeface="Impact"/>
              </a:rPr>
              <a:t>Necesidad de conocimientos básicos  especialmente en los cultivos comerciales,  requeriendose conocimiento  técnico combinado  con la comprensión  de los principios  de  fisiología vegetal y de química orgánic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3) </a:t>
            </a:r>
            <a:r>
              <a:rPr b="0" lang="es-ES_tradnl" sz="2400" spc="-1" strike="noStrike">
                <a:solidFill>
                  <a:srgbClr val="cc6600"/>
                </a:solidFill>
                <a:latin typeface="Impact"/>
              </a:rPr>
              <a:t>Ausencia de vida benéfica del suel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4) </a:t>
            </a:r>
            <a:r>
              <a:rPr b="0" lang="es-ES_tradnl" sz="2400" spc="-1" strike="noStrike">
                <a:solidFill>
                  <a:srgbClr val="ff3399"/>
                </a:solidFill>
                <a:latin typeface="Impact"/>
              </a:rPr>
              <a:t>Rápida propagación  de enfermedades  a través de la solución nutritiva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5) </a:t>
            </a:r>
            <a:r>
              <a:rPr b="0" lang="es-ES_tradnl" sz="2400" spc="-1" strike="noStrike">
                <a:solidFill>
                  <a:srgbClr val="b2b2b2"/>
                </a:solidFill>
                <a:latin typeface="Impact"/>
              </a:rPr>
              <a:t>No todas las variedades de plantas  son apropiadas para un cultivo hidropónico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6) </a:t>
            </a:r>
            <a:r>
              <a:rPr b="0" lang="es-ES_tradnl" sz="2400" spc="-1" strike="noStrike">
                <a:solidFill>
                  <a:srgbClr val="99ff33"/>
                </a:solidFill>
                <a:latin typeface="Impact"/>
              </a:rPr>
              <a:t>Las plantas reaccionan  rápidamente a buenas y malas condiciones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7) </a:t>
            </a:r>
            <a:r>
              <a:rPr b="0" lang="es-ES_tradnl" sz="2400" spc="-1" strike="noStrike">
                <a:solidFill>
                  <a:srgbClr val="ff66ff"/>
                </a:solidFill>
                <a:latin typeface="Impact"/>
              </a:rPr>
              <a:t>Requiere de un abastecimiento continuo de agua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0ED4-FAE8-4D41-9AD5-17AC85CFFF0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COMPARAC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7168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71360" y="3581280"/>
            <a:ext cx="3029040" cy="16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1581120" y="3390840"/>
            <a:ext cx="80028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758880" y="1631880"/>
            <a:ext cx="1168200" cy="21751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46240" y="1320840"/>
            <a:ext cx="1079280" cy="24382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171756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819000" y="191124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2050920" y="15271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2025720" y="1825560"/>
            <a:ext cx="1724040" cy="170172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2019240" y="2016000"/>
            <a:ext cx="1476360" cy="15782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2190600" y="3695760"/>
            <a:ext cx="704880" cy="14097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1924200" y="3695760"/>
            <a:ext cx="1047600" cy="14288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959120" y="3657600"/>
            <a:ext cx="422280" cy="13716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1409760" y="3733920"/>
            <a:ext cx="438120" cy="14097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762120" y="3695760"/>
            <a:ext cx="1047600" cy="148572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485640" y="3657600"/>
            <a:ext cx="1247760" cy="150480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2438280" y="4734000"/>
            <a:ext cx="457200" cy="4096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695600" y="4572000"/>
            <a:ext cx="361800" cy="55260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133640" y="4591080"/>
            <a:ext cx="142560" cy="53352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399960" y="4591080"/>
            <a:ext cx="476280" cy="41904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1600200" y="4705200"/>
            <a:ext cx="114480" cy="47628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4971960" y="3524400"/>
            <a:ext cx="2762280" cy="156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2533680" y="4343400"/>
            <a:ext cx="514440" cy="819000"/>
          </a:xfrm>
          <a:prstGeom prst="pie">
            <a:avLst/>
          </a:prstGeom>
          <a:noFill/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2171880" y="2206800"/>
            <a:ext cx="1647720" cy="13683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7"/>
          <p:cNvSpPr/>
          <p:nvPr/>
        </p:nvSpPr>
        <p:spPr>
          <a:xfrm>
            <a:off x="6134040" y="3390840"/>
            <a:ext cx="80028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5311800" y="1517760"/>
            <a:ext cx="1168200" cy="21747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5565600" y="1225440"/>
            <a:ext cx="1079640" cy="243864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6438960" y="3657600"/>
            <a:ext cx="1047600" cy="120024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6496200" y="3638520"/>
            <a:ext cx="495000" cy="11811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5172120" y="3638520"/>
            <a:ext cx="1076400" cy="129528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5505480" y="3676680"/>
            <a:ext cx="857160" cy="129528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5829480" y="3695760"/>
            <a:ext cx="457200" cy="11811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6245280" y="3638520"/>
            <a:ext cx="422280" cy="1314360"/>
          </a:xfrm>
          <a:prstGeom prst="pie">
            <a:avLst/>
          </a:prstGeom>
          <a:noFill/>
          <a:ln w="381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4"/>
          <p:cNvSpPr/>
          <p:nvPr/>
        </p:nvSpPr>
        <p:spPr>
          <a:xfrm>
            <a:off x="372600" y="711360"/>
            <a:ext cx="332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6633"/>
                </a:solidFill>
                <a:latin typeface="Verdana"/>
              </a:rPr>
              <a:t>CULTIVO EN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4526640" y="692280"/>
            <a:ext cx="416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cc"/>
                </a:solidFill>
                <a:latin typeface="Verdana"/>
              </a:rPr>
              <a:t>CULTIVO HIDROPON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55"/>
          <p:cNvSpPr/>
          <p:nvPr/>
        </p:nvSpPr>
        <p:spPr>
          <a:xfrm>
            <a:off x="6080040" y="1352520"/>
            <a:ext cx="1095480" cy="217800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56"/>
          <p:cNvSpPr/>
          <p:nvPr/>
        </p:nvSpPr>
        <p:spPr>
          <a:xfrm>
            <a:off x="6451560" y="1393920"/>
            <a:ext cx="1203480" cy="200016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7"/>
          <p:cNvSpPr/>
          <p:nvPr/>
        </p:nvSpPr>
        <p:spPr>
          <a:xfrm>
            <a:off x="5276880" y="1892160"/>
            <a:ext cx="1162080" cy="1594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58"/>
          <p:cNvSpPr/>
          <p:nvPr/>
        </p:nvSpPr>
        <p:spPr>
          <a:xfrm>
            <a:off x="6410160" y="1787400"/>
            <a:ext cx="1724040" cy="1702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59"/>
          <p:cNvSpPr/>
          <p:nvPr/>
        </p:nvSpPr>
        <p:spPr>
          <a:xfrm>
            <a:off x="6419880" y="1978200"/>
            <a:ext cx="1476360" cy="15778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60"/>
          <p:cNvSpPr/>
          <p:nvPr/>
        </p:nvSpPr>
        <p:spPr>
          <a:xfrm>
            <a:off x="6438960" y="2320920"/>
            <a:ext cx="1781280" cy="1216080"/>
          </a:xfrm>
          <a:prstGeom prst="pie">
            <a:avLst/>
          </a:prstGeom>
          <a:solidFill>
            <a:srgbClr val="99ff66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1"/>
          <p:cNvSpPr/>
          <p:nvPr/>
        </p:nvSpPr>
        <p:spPr>
          <a:xfrm>
            <a:off x="568440" y="1301760"/>
            <a:ext cx="72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CO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62"/>
          <p:cNvSpPr/>
          <p:nvPr/>
        </p:nvSpPr>
        <p:spPr>
          <a:xfrm>
            <a:off x="4856040" y="1187280"/>
            <a:ext cx="72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1932"/>
                </a:solidFill>
                <a:latin typeface="Verdana"/>
              </a:rPr>
              <a:t>CO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63"/>
          <p:cNvSpPr/>
          <p:nvPr/>
        </p:nvSpPr>
        <p:spPr>
          <a:xfrm>
            <a:off x="3943440" y="1866960"/>
            <a:ext cx="105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PA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AE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64"/>
          <p:cNvSpPr/>
          <p:nvPr/>
        </p:nvSpPr>
        <p:spPr>
          <a:xfrm>
            <a:off x="348480" y="3619440"/>
            <a:ext cx="75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65"/>
          <p:cNvSpPr/>
          <p:nvPr/>
        </p:nvSpPr>
        <p:spPr>
          <a:xfrm>
            <a:off x="4708440" y="3429000"/>
            <a:ext cx="3747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7"/>
          <p:cNvSpPr/>
          <p:nvPr/>
        </p:nvSpPr>
        <p:spPr>
          <a:xfrm>
            <a:off x="7823160" y="3371760"/>
            <a:ext cx="243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1932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70"/>
          <p:cNvSpPr/>
          <p:nvPr/>
        </p:nvSpPr>
        <p:spPr>
          <a:xfrm>
            <a:off x="0" y="5051520"/>
            <a:ext cx="407340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O + nutrient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1"/>
          <p:cNvSpPr/>
          <p:nvPr/>
        </p:nvSpPr>
        <p:spPr>
          <a:xfrm>
            <a:off x="5014800" y="4917960"/>
            <a:ext cx="3807000" cy="87588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1932"/>
                </a:solidFill>
                <a:latin typeface="Times New Roman"/>
              </a:rPr>
              <a:t>O + nutrient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solución nutriti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72"/>
          <p:cNvSpPr/>
          <p:nvPr/>
        </p:nvSpPr>
        <p:spPr>
          <a:xfrm>
            <a:off x="0" y="5670720"/>
            <a:ext cx="47116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Los iones presentes en el sue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pueden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 estar disponibles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la pl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73"/>
          <p:cNvSpPr/>
          <p:nvPr/>
        </p:nvSpPr>
        <p:spPr>
          <a:xfrm>
            <a:off x="5583240" y="5670720"/>
            <a:ext cx="35607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TODOS  </a:t>
            </a: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los iones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Times New Roman"/>
              </a:rPr>
              <a:t>elementos  están disponibles para la pla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74"/>
          <p:cNvSpPr/>
          <p:nvPr/>
        </p:nvSpPr>
        <p:spPr>
          <a:xfrm>
            <a:off x="1200240" y="1676520"/>
            <a:ext cx="457200" cy="514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76"/>
          <p:cNvSpPr/>
          <p:nvPr/>
        </p:nvSpPr>
        <p:spPr>
          <a:xfrm>
            <a:off x="5505480" y="1562040"/>
            <a:ext cx="533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77"/>
          <p:cNvSpPr/>
          <p:nvPr/>
        </p:nvSpPr>
        <p:spPr>
          <a:xfrm flipV="1">
            <a:off x="781200" y="4514400"/>
            <a:ext cx="95040" cy="590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78"/>
          <p:cNvSpPr/>
          <p:nvPr/>
        </p:nvSpPr>
        <p:spPr>
          <a:xfrm flipV="1">
            <a:off x="5524560" y="4228920"/>
            <a:ext cx="76320" cy="74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3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4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3214-37B8-410F-9B31-717D59E60B7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1523880"/>
            <a:ext cx="9144000" cy="4572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</a:t>
            </a:r>
            <a:br>
              <a:rPr sz="4400"/>
            </a:br>
            <a:r>
              <a:rPr b="0" lang="es-ES_tradnl" sz="4000" spc="-1" strike="noStrike">
                <a:solidFill>
                  <a:srgbClr val="009900"/>
                </a:solidFill>
                <a:latin typeface="Arial Black"/>
              </a:rPr>
              <a:t>NUTRICION MINERAL DE LAS PLANTA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02480" y="3276720"/>
            <a:ext cx="1712520" cy="6426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PESO FRES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DE LA PLA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464120" y="4572000"/>
            <a:ext cx="3009240" cy="68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En el proceso se perdió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promedio un 85</a:t>
            </a:r>
            <a:r>
              <a:rPr b="1" lang="es-ES_tradnl" sz="1800" spc="-1" strike="noStrike">
                <a:solidFill>
                  <a:srgbClr val="ff0000"/>
                </a:solidFill>
                <a:latin typeface="Arial Black"/>
              </a:rPr>
              <a:t>%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 de H</a:t>
            </a:r>
            <a:r>
              <a:rPr b="0" lang="es-ES_tradnl" sz="1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825360" y="3276720"/>
            <a:ext cx="17125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 Black"/>
              </a:rPr>
              <a:t>PESO SE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 Black"/>
              </a:rPr>
              <a:t>DE LA PLA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061000" y="2590920"/>
            <a:ext cx="1789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Estufa 70-80 </a:t>
            </a:r>
            <a:r>
              <a:rPr b="0" lang="es-ES_tradnl" sz="1800" spc="-1" strike="noStrike" baseline="30000">
                <a:solidFill>
                  <a:srgbClr val="ff0000"/>
                </a:solidFill>
                <a:latin typeface="Arial Black"/>
              </a:rPr>
              <a:t>o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24 - 48 ho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200400"/>
            <a:ext cx="2819520" cy="10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90</a:t>
            </a:r>
            <a:r>
              <a:rPr b="1" lang="es-ES_tradnl" sz="1800" spc="-1" strike="noStrike">
                <a:solidFill>
                  <a:srgbClr val="cc6600"/>
                </a:solidFill>
                <a:latin typeface="Arial Black"/>
              </a:rPr>
              <a:t>%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 : C,H,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10</a:t>
            </a:r>
            <a:r>
              <a:rPr b="1" lang="es-ES_tradnl" sz="1800" spc="-1" strike="noStrike">
                <a:solidFill>
                  <a:srgbClr val="cc6600"/>
                </a:solidFill>
                <a:latin typeface="Arial Black"/>
              </a:rPr>
              <a:t>%</a:t>
            </a:r>
            <a:r>
              <a:rPr b="0" lang="es-ES_tradnl" sz="1800" spc="-1" strike="noStrike">
                <a:solidFill>
                  <a:srgbClr val="cc6600"/>
                </a:solidFill>
                <a:latin typeface="Arial Black"/>
              </a:rPr>
              <a:t> : </a:t>
            </a:r>
            <a:r>
              <a:rPr b="0" lang="es-ES_tradnl" sz="1800" spc="-1" strike="noStrike">
                <a:solidFill>
                  <a:srgbClr val="0000ff"/>
                </a:solidFill>
                <a:latin typeface="Arial Black"/>
              </a:rPr>
              <a:t>13 Element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s-ES_tradnl" sz="1800" spc="-1" strike="noStrike">
                <a:solidFill>
                  <a:srgbClr val="0000ff"/>
                </a:solidFill>
                <a:latin typeface="Arial Black"/>
              </a:rPr>
              <a:t>esenci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885600" y="3962520"/>
            <a:ext cx="697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4061160" y="3962520"/>
            <a:ext cx="8740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1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2362320" y="35812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791320" y="3048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Marcador de pie de página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UIS ROS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9D49-972B-4B22-A31A-006EFC4B365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HIDROPONIA NUTRICION MINER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Las plantas requieren para su normal crecimiento de </a:t>
            </a: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un mínimo de 16 elementos  químicos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, de los cuales 3 los extraen del aire y del agua ( C, H y O, bajo la forma de CO</a:t>
            </a:r>
            <a:r>
              <a:rPr b="0" lang="es-ES" sz="2800" spc="-1" strike="noStrike" baseline="-25000">
                <a:solidFill>
                  <a:srgbClr val="0000ff"/>
                </a:solidFill>
                <a:latin typeface="Arial Black"/>
              </a:rPr>
              <a:t>2 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y H</a:t>
            </a:r>
            <a:r>
              <a:rPr b="0" lang="es-ES" sz="2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O)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Los otros 13 elementos las plantas los consumen en </a:t>
            </a: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ff"/>
                </a:solidFill>
                <a:latin typeface="Arial Black"/>
              </a:rPr>
              <a:t>s grados e intensidade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21:13:48Z</dcterms:created>
  <dc:creator>FACULTAD DE CIENCIAS</dc:creator>
  <dc:description/>
  <dc:language>en-US</dc:language>
  <cp:lastModifiedBy>cingacio bajo</cp:lastModifiedBy>
  <cp:lastPrinted>1999-11-16T22:06:52Z</cp:lastPrinted>
  <dcterms:modified xsi:type="dcterms:W3CDTF">2013-03-18T19:31:11Z</dcterms:modified>
  <cp:revision>61</cp:revision>
  <dc:subject/>
  <dc:title>HIDROPONIA</dc:title>
</cp:coreProperties>
</file>